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D812E-0F88-479F-8F87-6A65C9610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178920"/>
            <a:ext cx="878544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9280" y="1438200"/>
            <a:ext cx="8785440" cy="22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9280" y="3882240"/>
            <a:ext cx="8785440" cy="22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0DBED-AE25-4EE2-BFE5-AF760077F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178920"/>
            <a:ext cx="878544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9280" y="1438200"/>
            <a:ext cx="4287240" cy="22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1438200"/>
            <a:ext cx="4287240" cy="22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9280" y="3882240"/>
            <a:ext cx="4287240" cy="22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3882240"/>
            <a:ext cx="4287240" cy="22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37FDD-47CD-4D2C-8F83-1A0FF5921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178920"/>
            <a:ext cx="878544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9280" y="1438200"/>
            <a:ext cx="2828520" cy="22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49640" y="1438200"/>
            <a:ext cx="2828520" cy="22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0000" y="1438200"/>
            <a:ext cx="2828520" cy="22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9280" y="3882240"/>
            <a:ext cx="2828520" cy="22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49640" y="3882240"/>
            <a:ext cx="2828520" cy="22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0000" y="3882240"/>
            <a:ext cx="2828520" cy="22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EEE54-7607-4DEB-B72D-EBF0F7D16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178920"/>
            <a:ext cx="878544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9280" y="1438200"/>
            <a:ext cx="8785440" cy="467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5B575-32E1-4E2A-8639-BD5EB350F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178920"/>
            <a:ext cx="878544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9280" y="1438200"/>
            <a:ext cx="8785440" cy="46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8F1BA-64BA-4E6D-9195-69AC4D928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178920"/>
            <a:ext cx="878544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9280" y="1438200"/>
            <a:ext cx="4287240" cy="46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1438200"/>
            <a:ext cx="4287240" cy="46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CB3E8-E938-4F5A-B628-1F0EB20D5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178920"/>
            <a:ext cx="878544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2FF2E-674E-4951-AEA8-0411732AB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178920"/>
            <a:ext cx="8785440" cy="500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E934A-213D-40C8-9F4F-BB4A1D953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78920"/>
            <a:ext cx="878544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9280" y="1438200"/>
            <a:ext cx="4287240" cy="22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1438200"/>
            <a:ext cx="4287240" cy="46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9280" y="3882240"/>
            <a:ext cx="4287240" cy="22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CFFC2-51E5-40E8-8A51-85243C3B2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78920"/>
            <a:ext cx="878544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1438200"/>
            <a:ext cx="4287240" cy="46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438200"/>
            <a:ext cx="4287240" cy="22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3882240"/>
            <a:ext cx="4287240" cy="22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C254B-F5F8-41B6-81BA-04FB9B580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178920"/>
            <a:ext cx="878544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9280" y="1438200"/>
            <a:ext cx="4287240" cy="22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1438200"/>
            <a:ext cx="4287240" cy="22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9280" y="3882240"/>
            <a:ext cx="8785440" cy="22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6E65F-2B47-4D19-8BC6-C11039A34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78920"/>
            <a:ext cx="878544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9280" y="1438200"/>
            <a:ext cx="8785440" cy="46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Aft>
                <a:spcPts val="1199"/>
              </a:spcAft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Aft>
                <a:spcPts val="1199"/>
              </a:spcAft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Aft>
                <a:spcPts val="1199"/>
              </a:spcAft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Aft>
                <a:spcPts val="1199"/>
              </a:spcAft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79280" y="6318000"/>
            <a:ext cx="2159280" cy="5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9F8BC-2D54-4FB4-836D-0B67F590E2F6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28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58920" y="6318000"/>
            <a:ext cx="2879640" cy="5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37120" y="6297480"/>
            <a:ext cx="2158920" cy="5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F546F-D64A-4AD7-8AE6-6F6B7CFA66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9280" y="178920"/>
            <a:ext cx="878544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DOOR PENTATHLON COMPETITION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50920" y="1773360"/>
            <a:ext cx="864216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TURDAY JULY 2 at 2:30 p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NMAWR FITNESS CLU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9280" y="178920"/>
            <a:ext cx="878544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87854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4T19:14:43Z</dcterms:created>
  <dc:creator/>
  <dc:description/>
  <dc:language>en-US</dc:language>
  <cp:lastModifiedBy/>
  <dcterms:modified xsi:type="dcterms:W3CDTF">2010-10-06T08:41:22Z</dcterms:modified>
  <cp:revision>10</cp:revision>
  <dc:subject/>
  <dc:title>INDOOR PENTATHLON COMPETITION</dc:title>
</cp:coreProperties>
</file>